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C2CA-6C85-4B5F-AA49-9E5AF9757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5488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" y="3866400"/>
            <a:ext cx="822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36B4-9C43-478E-AF3C-4201F630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5488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6640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5400" y="386640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EB27-D702-416D-8FDC-7E11C1E97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5488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264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50800" y="1196640"/>
            <a:ext cx="264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33240" y="1196640"/>
            <a:ext cx="264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8360" y="3866400"/>
            <a:ext cx="264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50800" y="3866400"/>
            <a:ext cx="264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33240" y="3866400"/>
            <a:ext cx="264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A82A-1CDC-4D4C-9E3C-9A07BB498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5488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6836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14FA-B8DF-475A-8270-AF177DFF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5488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E3B2-8B72-4907-A6F1-29676968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5488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C50E-037C-4AF0-AD2E-66BDDE2E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5488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0A83-123B-4045-A0B4-8C3883FB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280" y="259920"/>
            <a:ext cx="754884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FCCA-1B91-4677-9DC7-B732B2FC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5488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86640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99A7-FB58-4A71-99ED-3CBF410D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5488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5400" y="386640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5299-A277-4AA6-84CC-C77FAB25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5488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866400"/>
            <a:ext cx="822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0417-9C17-440D-A095-FFEF87A0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96640"/>
            <a:ext cx="8229600" cy="51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≈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39280" y="259920"/>
            <a:ext cx="754884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dddddd"/>
                </a:solidFill>
                <a:latin typeface="Arial"/>
              </a:rPr>
              <a:t>Apr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dddddd"/>
                </a:solidFill>
                <a:latin typeface="Arial"/>
              </a:rPr>
              <a:t>24-23cm A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E162-77F0-48ED-B0E7-D0809CDF7E98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942320" y="243000"/>
            <a:ext cx="1068480" cy="680760"/>
            <a:chOff x="7942320" y="243000"/>
            <a:chExt cx="1068480" cy="680760"/>
          </a:xfrm>
        </p:grpSpPr>
        <p:sp>
          <p:nvSpPr>
            <p:cNvPr id="7" name=""/>
            <p:cNvSpPr/>
            <p:nvPr/>
          </p:nvSpPr>
          <p:spPr>
            <a:xfrm>
              <a:off x="7942320" y="584280"/>
              <a:ext cx="239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678880" y="584280"/>
              <a:ext cx="331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5400000">
              <a:off x="8226360" y="288720"/>
              <a:ext cx="680760" cy="58896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rot="5400000">
              <a:off x="8043840" y="401400"/>
              <a:ext cx="419040" cy="36216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4360" y="692280"/>
            <a:ext cx="8135640" cy="5030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66"/>
                </a:solidFill>
                <a:latin typeface="Arial"/>
              </a:rPr>
              <a:t>24 – 23 cm Amplifier I/O Cabl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66"/>
                </a:solidFill>
                <a:latin typeface="Arial"/>
              </a:rPr>
              <a:t>for PCB Ver 0.0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                               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Wayne Getch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                                           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VE3C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CB Prototyp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13CE-3DB7-4D50-97E7-ED9BAA86A9B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626528-F167-474B-B8D2-691C52B01D0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54884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ffff66"/>
                </a:solidFill>
                <a:latin typeface="Arial"/>
              </a:rPr>
              <a:t>PCB to I/O Connections </a:t>
            </a:r>
            <a:endParaRPr b="1" i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920" y="1196640"/>
            <a:ext cx="7561440" cy="475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11360" y="1176480"/>
            <a:ext cx="7719840" cy="487656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333333"/>
            </a:outerShdw>
          </a:effectLst>
        </p:spPr>
      </p:pic>
      <p:grpSp>
        <p:nvGrpSpPr>
          <p:cNvPr id="52" name=""/>
          <p:cNvGrpSpPr/>
          <p:nvPr/>
        </p:nvGrpSpPr>
        <p:grpSpPr>
          <a:xfrm>
            <a:off x="5765760" y="3573360"/>
            <a:ext cx="2152800" cy="2232000"/>
            <a:chOff x="5765760" y="3573360"/>
            <a:chExt cx="2152800" cy="2232000"/>
          </a:xfrm>
        </p:grpSpPr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5765760" y="4413240"/>
              <a:ext cx="93528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938920" y="3573360"/>
              <a:ext cx="17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6 Pin Mini-D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792760" y="3924360"/>
              <a:ext cx="211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Chassis Con Front Vie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740640" y="4219560"/>
              <a:ext cx="117792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Demo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G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G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PT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Rly Ou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Gnd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Shell -  G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CB Prototyp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1034-65F0-49A0-8A76-A8F96F81C87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D8FA6C-4C33-4EA2-9AD2-9CAFEAA04D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54884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ffff66"/>
                </a:solidFill>
                <a:latin typeface="Arial"/>
              </a:rPr>
              <a:t>Control Cable</a:t>
            </a:r>
            <a:endParaRPr b="1" i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19440" y="1819440"/>
            <a:ext cx="6105240" cy="4028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89604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66"/>
                </a:solidFill>
                <a:latin typeface="Arial"/>
              </a:rPr>
              <a:t>Male 6 Pin mini-DIN</a:t>
            </a: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647800" y="3209760"/>
            <a:ext cx="1843200" cy="1843200"/>
            <a:chOff x="2647800" y="3209760"/>
            <a:chExt cx="1843200" cy="1843200"/>
          </a:xfrm>
        </p:grpSpPr>
        <p:grpSp>
          <p:nvGrpSpPr>
            <p:cNvPr id="61" name=""/>
            <p:cNvGrpSpPr/>
            <p:nvPr/>
          </p:nvGrpSpPr>
          <p:grpSpPr>
            <a:xfrm>
              <a:off x="2647800" y="3209760"/>
              <a:ext cx="1843200" cy="1843200"/>
              <a:chOff x="2647800" y="3209760"/>
              <a:chExt cx="1843200" cy="1843200"/>
            </a:xfrm>
          </p:grpSpPr>
          <p:pic>
            <p:nvPicPr>
              <p:cNvPr id="6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647800" y="3209760"/>
                <a:ext cx="1843200" cy="184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>
                <a:off x="3438360" y="3738240"/>
                <a:ext cx="252720" cy="452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2847600" y="3508200"/>
              <a:ext cx="1435680" cy="1022760"/>
              <a:chOff x="2847600" y="3508200"/>
              <a:chExt cx="1435680" cy="1022760"/>
            </a:xfrm>
          </p:grpSpPr>
          <p:sp>
            <p:nvSpPr>
              <p:cNvPr id="65" name=""/>
              <p:cNvSpPr/>
              <p:nvPr/>
            </p:nvSpPr>
            <p:spPr>
              <a:xfrm>
                <a:off x="3814200" y="35082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039480" y="35096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017240" y="39258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847600" y="39272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687120" y="42526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79160" y="42544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4930920" y="3429000"/>
            <a:ext cx="20541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Red  Demo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N/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Yel   G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Clr    P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Brn   Rly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N/C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Shell -  bare wire G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30680" y="2027160"/>
            <a:ext cx="317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escued from a PC key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85720" y="290988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ale Cabl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CB Prototyp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754E-C9DD-4CE3-9A27-40E9857280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0E0C35-15D1-4789-BA89-ED507E7A68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54884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Arial"/>
              </a:rPr>
              <a:t>Cover Template</a:t>
            </a:r>
            <a:endParaRPr b="1" i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8360" y="2205000"/>
          <a:ext cx="4038480" cy="309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205000"/>
                    <a:ext cx="403848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0" y="1038240"/>
            <a:ext cx="9144000" cy="746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32000" y="2565360"/>
            <a:ext cx="1511280" cy="1511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1844640"/>
            <a:ext cx="1511280" cy="719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4246200" y="2962080"/>
            <a:ext cx="1513080" cy="719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2014200" y="2961720"/>
            <a:ext cx="1513080" cy="719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0800000">
            <a:off x="3131640" y="4076640"/>
            <a:ext cx="1513080" cy="719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203640" y="414972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851280" y="4076640"/>
            <a:ext cx="792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600" spc="-1" strike="noStrike">
                <a:solidFill>
                  <a:srgbClr val="000000"/>
                </a:solidFill>
                <a:latin typeface="Arial"/>
              </a:rPr>
              <a:t>Demo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6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6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600" spc="-1" strike="noStrike">
                <a:solidFill>
                  <a:srgbClr val="000000"/>
                </a:solidFill>
                <a:latin typeface="Arial"/>
              </a:rPr>
              <a:t>PT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600" spc="-1" strike="noStrike">
                <a:solidFill>
                  <a:srgbClr val="000000"/>
                </a:solidFill>
                <a:latin typeface="Arial"/>
              </a:rPr>
              <a:t>Rly Sense Ou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6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600" spc="-1" strike="noStrike">
                <a:solidFill>
                  <a:srgbClr val="000000"/>
                </a:solidFill>
                <a:latin typeface="Arial"/>
              </a:rPr>
              <a:t>Shell -  bare wi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89160" y="1844640"/>
            <a:ext cx="1587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700" spc="-1" strike="noStrike">
                <a:solidFill>
                  <a:srgbClr val="000000"/>
                </a:solidFill>
                <a:latin typeface="Arial"/>
              </a:rPr>
              <a:t>24-23cm Am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92200" y="330516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200" spc="-1" strike="noStrike">
                <a:solidFill>
                  <a:srgbClr val="000000"/>
                </a:solidFill>
                <a:latin typeface="Arial"/>
              </a:rPr>
              <a:t>Tx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11320" y="2565360"/>
          <a:ext cx="1974960" cy="13384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11320" y="2565360"/>
                    <a:ext cx="197496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2413080" y="3738600"/>
            <a:ext cx="6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200" spc="-1" strike="noStrike">
                <a:solidFill>
                  <a:srgbClr val="000000"/>
                </a:solidFill>
                <a:latin typeface="Arial"/>
              </a:rPr>
              <a:t>Rx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00800" y="262080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76720" y="3284640"/>
            <a:ext cx="142920" cy="144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59280" y="3284640"/>
            <a:ext cx="142920" cy="144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3280" y="3284640"/>
            <a:ext cx="142920" cy="1443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463640" y="308772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CA" sz="800" spc="-1" strike="noStrike">
                <a:solidFill>
                  <a:srgbClr val="000000"/>
                </a:solidFill>
                <a:latin typeface="Arial"/>
              </a:rPr>
              <a:t>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926240" y="3088440"/>
            <a:ext cx="46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800" spc="-1" strike="noStrike">
                <a:solidFill>
                  <a:srgbClr val="000000"/>
                </a:solidFill>
                <a:latin typeface="Arial"/>
              </a:rPr>
              <a:t>Pw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717800" y="3105360"/>
            <a:ext cx="43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800" spc="-1" strike="noStrike">
                <a:solidFill>
                  <a:srgbClr val="000000"/>
                </a:solidFill>
                <a:latin typeface="Arial"/>
              </a:rPr>
              <a:t>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06840" y="3489480"/>
            <a:ext cx="73332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800" spc="-1" strike="noStrike">
                <a:solidFill>
                  <a:srgbClr val="000000"/>
                </a:solidFill>
                <a:latin typeface="Arial"/>
              </a:rPr>
              <a:t>10 - 15V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800" spc="-1" strike="noStrike">
                <a:solidFill>
                  <a:srgbClr val="000000"/>
                </a:solidFill>
                <a:latin typeface="Arial"/>
              </a:rPr>
              <a:t>9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4724280" y="3606840"/>
            <a:ext cx="581040" cy="331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195720" y="2174760"/>
            <a:ext cx="139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000" spc="-1" strike="noStrike">
                <a:solidFill>
                  <a:srgbClr val="000000"/>
                </a:solidFill>
                <a:latin typeface="Arial"/>
              </a:rPr>
              <a:t>Max I/P Pwr = 10m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33640" y="3798720"/>
            <a:ext cx="10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600" spc="-1" strike="noStrike">
                <a:solidFill>
                  <a:srgbClr val="000000"/>
                </a:solidFill>
                <a:latin typeface="Arial"/>
              </a:rPr>
              <a:t>PTT is active low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600" spc="-1" strike="noStrike">
                <a:solidFill>
                  <a:srgbClr val="000000"/>
                </a:solidFill>
                <a:latin typeface="Arial"/>
              </a:rPr>
              <a:t>Rly Sen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CA" sz="600" spc="-1" strike="noStrike">
                <a:solidFill>
                  <a:srgbClr val="000000"/>
                </a:solidFill>
                <a:latin typeface="Arial"/>
              </a:rPr>
              <a:t>0V Rx  5V T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41720" y="3967200"/>
            <a:ext cx="103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600" spc="-1" strike="noStrike">
                <a:solidFill>
                  <a:srgbClr val="000000"/>
                </a:solidFill>
                <a:latin typeface="Arial"/>
              </a:rPr>
              <a:t>Control mini-DI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86080" y="2651040"/>
            <a:ext cx="698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000" spc="-1" strike="noStrike">
                <a:solidFill>
                  <a:srgbClr val="000000"/>
                </a:solidFill>
                <a:latin typeface="Arial"/>
              </a:rPr>
              <a:t>2 mW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000" spc="-1" strike="noStrike">
                <a:solidFill>
                  <a:srgbClr val="000000"/>
                </a:solidFill>
                <a:latin typeface="Arial"/>
              </a:rPr>
              <a:t>20W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CA" sz="1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1" i="1" lang="en-CA" sz="1000" spc="-1" strike="noStrike">
                <a:solidFill>
                  <a:srgbClr val="000000"/>
                </a:solidFill>
                <a:latin typeface="Arial"/>
              </a:rPr>
              <a:t>= 5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CB Prototyp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DAC8-7DDD-4800-8A34-2790CA5B219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A49D05-F6FE-4594-87A4-914F58811A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w.getchell</cp:lastModifiedBy>
  <dcterms:modified xsi:type="dcterms:W3CDTF">2013-04-03T02:27:05Z</dcterms:modified>
  <cp:revision>134</cp:revision>
  <dc:subject/>
  <dc:title>Blue abstract background </dc:title>
</cp:coreProperties>
</file>